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B515-F118-436D-8073-5000C97A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4D174-981D-470D-B08E-ECBE30F4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5CC85-C847-46A6-9E92-8954FBDD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19650-473B-4A39-B1A1-995A408D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8707B-8318-4BA5-93E5-FF604763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693BB-E500-4956-AC7F-3F5BF07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79F38-8284-4BBF-950A-47EF6334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327A1-0997-4790-A9F6-C3960D86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F3BCC-A656-45FF-A289-08AADE5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C55F-1BEE-40BE-B668-6421FF88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293FE-E693-4156-9AD5-0F16A434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85AB-CF09-4F28-B3DD-D608E81E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DD766-2401-4204-A5F5-5D027CB2A5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5E405-B2D2-4AA3-958C-35A08BA65C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5D5D-96F7-49E9-BE6B-5142EB3ED3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45FAD-DF66-4DD8-9489-771D685FB7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61F3-D26C-4873-9F7C-49D044117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0E287-EFC2-4B77-8462-6DED69FCB5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4014-1AD5-4BFA-B423-7138F1554C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49170-13FB-45EF-8CD1-07008C80A4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F357-06A9-43F2-BCEB-0B2924A1BF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D7B4-E6F1-4DDD-B139-886F0D3F0C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341E8-9004-432B-AF27-F9F1F97748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4DD0-DF8B-4D31-B46F-CCE3EF0DE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EC34-816C-4036-B0B6-E6E4A460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</a:t>
            </a:r>
            <a:fld id="{2C26069D-C4C9-41D7-B52F-477195FA25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ar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could be declar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scores = new int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[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 array of integ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array type does not specify its size, but each object of that type has a specific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erenc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et to a new array object that can hold 10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 and rubberban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ubber Lin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 and rubberband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ubber Lin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828800" y="457200"/>
            <a:ext cx="5562720" cy="3276720"/>
            <a:chOff x="1828800" y="457200"/>
            <a:chExt cx="5562720" cy="3276720"/>
          </a:xfrm>
        </p:grpSpPr>
        <p:sp>
          <p:nvSpPr>
            <p:cNvPr id="543" name="TextBox 5"/>
            <p:cNvSpPr/>
            <p:nvPr/>
          </p:nvSpPr>
          <p:spPr>
            <a:xfrm>
              <a:off x="1828800" y="457200"/>
              <a:ext cx="55627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6" descr="RubberLines.png"/>
            <p:cNvPicPr/>
            <p:nvPr/>
          </p:nvPicPr>
          <p:blipFill>
            <a:blip r:embed="rId1"/>
            <a:stretch/>
          </p:blipFill>
          <p:spPr>
            <a:xfrm>
              <a:off x="2082600" y="691920"/>
              <a:ext cx="505476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bberLine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drawing panel for the RubberLine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point1 = null, point2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to listen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ubberLine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Mo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4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457200" y="181080"/>
            <a:ext cx="838188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e current line from the initial mouse-pressed point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current position of the mo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1 !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 point2 !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point1.x, point1.y, point2.x, point2.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all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Listener, MouseMo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ptures the initial position at which the mouse button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Press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1 = event.get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ts the current position of the mouse as it is dragged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draws the line to create the rubberband eff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Dragg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2 = event.getPo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Click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Releas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nter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xit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Mov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enerated when the user types on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for key events are created by implemen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passed to the appropriate method when a key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878040" y="2286000"/>
          <a:ext cx="6868800" cy="1494000"/>
        </p:xfrm>
        <a:graphic>
          <a:graphicData uri="http://schemas.openxmlformats.org/drawingml/2006/table">
            <a:tbl>
              <a:tblPr/>
              <a:tblGrid>
                <a:gridCol w="1917720"/>
                <a:gridCol w="495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ty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ey on the keyboard is pressed down and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nent that generates a key event is the one that has the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board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be used to determine which key was 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"moves" an image of an arrow as the user types the keyboard arrow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ection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rection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key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irec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key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irec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2362320" y="457200"/>
            <a:ext cx="4267080" cy="3276720"/>
            <a:chOff x="2362320" y="457200"/>
            <a:chExt cx="4267080" cy="3276720"/>
          </a:xfrm>
        </p:grpSpPr>
        <p:sp>
          <p:nvSpPr>
            <p:cNvPr id="563" name="TextBox 5"/>
            <p:cNvSpPr/>
            <p:nvPr/>
          </p:nvSpPr>
          <p:spPr>
            <a:xfrm>
              <a:off x="2362320" y="457200"/>
              <a:ext cx="426708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6" descr="Direction.png"/>
            <p:cNvPicPr/>
            <p:nvPr/>
          </p:nvPicPr>
          <p:blipFill>
            <a:blip r:embed="rId1"/>
            <a:stretch/>
          </p:blipFill>
          <p:spPr>
            <a:xfrm>
              <a:off x="2603520" y="704880"/>
              <a:ext cx="3784680" cy="2781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rection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display panel for the Direction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300, HEIGHT = 2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UMP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crement for imag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_SIZE = 3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up, down, right, left, currentIm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lar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ther examples of array 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weights = new int[2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[] prices = new double[5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[] flag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ags = new boolean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[] codes = new char[175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457200" y="457200"/>
            <a:ext cx="838188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and loads the im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Key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WIDTH /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HEIGHT /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Up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w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Down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Left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arrowRight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WIDTH, HEIGH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ocusa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457200" y="76320"/>
            <a:ext cx="83818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e image in the current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.paintIcon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page, x, 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keyboard activ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recti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sponds to the user pressing arrow keys by adjust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mage and image location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Pressed (Key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.getKeyCod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u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-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DOW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d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LEF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-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Event.VK_RIGH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Image =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JU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Typed (Key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Released (Key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has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-each vers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can be used when processing array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score : sc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scor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ly appropriate when processing all array elements starting at index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't be used to set the arra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asicArra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ic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array declara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, fills it with various integer val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one value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15, MULTIPLE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LIM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itialize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LIMIT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ndex] = index * MULTIP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5] = 999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one array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: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valu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ic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array declara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, fills it with various integer value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one value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15, MULTIPLE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LIMI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itialize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LIMIT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index] = index * MULTIP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5] = 999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nge one array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array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: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valu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496440" y="228600"/>
            <a:ext cx="8047440" cy="1036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0  20  30  40  999  60  70  80  90  100  110  120  130  1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Array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8"/>
          <p:cNvGrpSpPr/>
          <p:nvPr/>
        </p:nvGrpSpPr>
        <p:grpSpPr>
          <a:xfrm>
            <a:off x="914400" y="1143000"/>
            <a:ext cx="7162920" cy="5334120"/>
            <a:chOff x="914400" y="1143000"/>
            <a:chExt cx="7162920" cy="5334120"/>
          </a:xfrm>
        </p:grpSpPr>
        <p:sp>
          <p:nvSpPr>
            <p:cNvPr id="203" name="TextBox 5"/>
            <p:cNvSpPr/>
            <p:nvPr/>
          </p:nvSpPr>
          <p:spPr>
            <a:xfrm>
              <a:off x="914400" y="1143000"/>
              <a:ext cx="7162920" cy="533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7" descr="fig08_02.tif"/>
            <p:cNvPicPr/>
            <p:nvPr/>
          </p:nvPicPr>
          <p:blipFill>
            <a:blip r:embed="rId1"/>
            <a:stretch/>
          </p:blipFill>
          <p:spPr>
            <a:xfrm>
              <a:off x="1371600" y="1346040"/>
              <a:ext cx="6324840" cy="48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rray declaration to represent the ages of 100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de that prints each value in an array of integer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array declaration to represent the ages of 100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de that prints each value in an array of integer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1820520" y="228600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ages = new int[1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1726560" y="4495680"/>
            <a:ext cx="5484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value :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valu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n array is created, it has a fixed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ex used in an array reference must specify a valid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index value must be in range 0 to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interpreter throw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an array index is out of b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alled automa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f the arra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hold 100 values, it can be indexed from 0 to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100, then the following reference will cause an exception to be thr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codes[count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common to int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ff-by-one 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using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95520" y="518940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nt index=0; index &lt;= 100; index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des[index] = index*50 + epsil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5108760" y="4662360"/>
            <a:ext cx="1255320" cy="976320"/>
            <a:chOff x="5108760" y="4662360"/>
            <a:chExt cx="1255320" cy="976320"/>
          </a:xfrm>
        </p:grpSpPr>
        <p:sp>
          <p:nvSpPr>
            <p:cNvPr id="220" name="Text Box 6"/>
            <p:cNvSpPr/>
            <p:nvPr/>
          </p:nvSpPr>
          <p:spPr>
            <a:xfrm>
              <a:off x="5108760" y="46623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Arial Unicode MS"/>
                </a:rPr>
                <a:t>probl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>
              <a:off x="5211720" y="5257440"/>
              <a:ext cx="10663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>
              <a:off x="5668920" y="5028840"/>
              <a:ext cx="75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are objects that help us organize large amounts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declara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s checking an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s that store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 events and keyboar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ds Che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rray object has a public constan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ores the size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ferenced using the array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.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lds the number of elements, not the largest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verseOrde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tterCou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Ord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rray index process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list of numbers from the user, storing them in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rray, then prints them in the opposite or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] number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size of the array: " + number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09480" y="14320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numbers.length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number " + (index+1)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s[index]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s in reverse order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numbers.length-1; index &gt;= 0; index-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numbers[index]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09480" y="14320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 index &lt; numbers.length; index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number " + (index+1) + "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s[index]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s in reverse order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numbers.length-1; index &gt;= 0; index-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numbers[index]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97880" y="457200"/>
            <a:ext cx="8291160" cy="3956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ize of the array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1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2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8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3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4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9.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5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2.4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6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4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7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3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8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5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9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9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number 10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99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s in reverse ord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9.18  69.0  45.55  63.41  34.8  72.404  29.06  53.5  48.9  18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tterCou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relationship between arrays and str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sentence from the user and cou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percase and lowercase letters contained in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CHARS = 26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upp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NUMCHAR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low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NUMCHAR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current character being proc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 = 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unter for non-alphabe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lin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 the number of each letter occu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 = 0; ch &lt; line.length(); ch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 = line.charAt(c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urrent &gt;= 'A' &amp;&amp; current &lt;= 'Z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[current-'A']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urrent &gt;= 'a' &amp;&amp; current &lt;= 'z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[current-'a']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=0; letter &lt; upper.length; lette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: " + upp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\t\t" +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: " + low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n-alphabetic characters: " +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the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=0; letter &lt; upper.length; lette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: " + upp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\t\t" +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letter + 'a'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: " + lower[letter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n-alphabetic characters: " +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502920" y="304920"/>
            <a:ext cx="8047440" cy="6146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In Casablanca, Humphrey Bogart never says "Play it again, Sam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4064040" y="2819520"/>
            <a:ext cx="3902040" cy="3469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: 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: 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z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n-alphabetic characters: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e Array 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ckets of the array type can be associated with the element type or with the name of the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following two declarations are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[] pr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rices[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format generally is more readable and should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itializer 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to instantiate and fill an array in on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delimited by braces and separated by com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951840" y="3962520"/>
            <a:ext cx="73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 units = {147, 323, 89, 933, 5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69, 97, 114, 298, 476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8480" y="518148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[] grades = {'A', 'B', 'C', 'D', ’F'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523880" y="1798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when an initializer li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is 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ze value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the array is determined by the number of items in th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lizer list can be used only in the array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me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m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nitializer list for an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some prime numbers in an array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rimeNums = {2, 3, 5, 7, 11, 13, 17, 19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rray length: " + primeNum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first few prime numbers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 : primeN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prim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m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nitializer list for an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some prime numbers in an array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rimeNums = {2, 3, 5, 7, 11, 13, 17, 19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rray length: " + primeNums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first few prime numbers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 : primeNu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prime + " 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340360" y="519120"/>
            <a:ext cx="42678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 length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rst few prime numbers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  3  5  7  11  13  17 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as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tire array can be passed as a parameter to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ny other object, the reference to the array is passed, making the formal and actual parameters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changing an array element within the method changes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dividual array element can be passed to a method as well, in which case the type of the formal parameter is the same as the elemen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1523880" y="2362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of an array can be object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reserves space to store 5 referenc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creat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 an array of objects hol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bject stored in an array must be instantiat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 when initially decla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oint, the following line of code would throw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Pointer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(words[0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0"/>
          <p:cNvGrpSpPr/>
          <p:nvPr/>
        </p:nvGrpSpPr>
        <p:grpSpPr>
          <a:xfrm>
            <a:off x="2639880" y="2057400"/>
            <a:ext cx="2617920" cy="1905120"/>
            <a:chOff x="2639880" y="2057400"/>
            <a:chExt cx="2617920" cy="1905120"/>
          </a:xfrm>
        </p:grpSpPr>
        <p:sp>
          <p:nvSpPr>
            <p:cNvPr id="273" name="Rectangle 4"/>
            <p:cNvSpPr/>
            <p:nvPr/>
          </p:nvSpPr>
          <p:spPr>
            <a:xfrm>
              <a:off x="3533760" y="2057400"/>
              <a:ext cx="577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2639880" y="2071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"/>
            <p:cNvSpPr/>
            <p:nvPr/>
          </p:nvSpPr>
          <p:spPr>
            <a:xfrm>
              <a:off x="3807000" y="22478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4572000" y="2057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4572000" y="2438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4572000" y="28195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572000" y="32004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4572000" y="35812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re created and stored in the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36"/>
          <p:cNvGrpSpPr/>
          <p:nvPr/>
        </p:nvGrpSpPr>
        <p:grpSpPr>
          <a:xfrm>
            <a:off x="1754280" y="2590920"/>
            <a:ext cx="5331960" cy="1904760"/>
            <a:chOff x="1754280" y="2590920"/>
            <a:chExt cx="5331960" cy="1904760"/>
          </a:xfrm>
        </p:grpSpPr>
        <p:grpSp>
          <p:nvGrpSpPr>
            <p:cNvPr id="285" name="Group 20"/>
            <p:cNvGrpSpPr/>
            <p:nvPr/>
          </p:nvGrpSpPr>
          <p:grpSpPr>
            <a:xfrm>
              <a:off x="5105520" y="2590920"/>
              <a:ext cx="1980720" cy="368280"/>
              <a:chOff x="5105520" y="2590920"/>
              <a:chExt cx="1980720" cy="368280"/>
            </a:xfrm>
          </p:grpSpPr>
          <p:sp>
            <p:nvSpPr>
              <p:cNvPr id="286" name="AutoShape 4"/>
              <p:cNvSpPr/>
              <p:nvPr/>
            </p:nvSpPr>
            <p:spPr>
              <a:xfrm>
                <a:off x="5105520" y="2629080"/>
                <a:ext cx="190476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5"/>
              <p:cNvSpPr/>
              <p:nvPr/>
            </p:nvSpPr>
            <p:spPr>
              <a:xfrm>
                <a:off x="5146560" y="2590920"/>
                <a:ext cx="193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"friendship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Rectangle 6"/>
            <p:cNvSpPr/>
            <p:nvPr/>
          </p:nvSpPr>
          <p:spPr>
            <a:xfrm>
              <a:off x="2647800" y="259092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1754280" y="26049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2921040" y="27813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3686040" y="2590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3686040" y="2971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1"/>
            <p:cNvSpPr/>
            <p:nvPr/>
          </p:nvSpPr>
          <p:spPr>
            <a:xfrm>
              <a:off x="3686040" y="33526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3686040" y="37339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3686040" y="41148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3990960" y="2779560"/>
              <a:ext cx="10414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21"/>
            <p:cNvGrpSpPr/>
            <p:nvPr/>
          </p:nvGrpSpPr>
          <p:grpSpPr>
            <a:xfrm>
              <a:off x="5105520" y="2978280"/>
              <a:ext cx="1600200" cy="368280"/>
              <a:chOff x="5105520" y="2978280"/>
              <a:chExt cx="1600200" cy="368280"/>
            </a:xfrm>
          </p:grpSpPr>
          <p:sp>
            <p:nvSpPr>
              <p:cNvPr id="298" name="AutoShape 18"/>
              <p:cNvSpPr/>
              <p:nvPr/>
            </p:nvSpPr>
            <p:spPr>
              <a:xfrm>
                <a:off x="5105520" y="3009960"/>
                <a:ext cx="16002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16"/>
              <p:cNvSpPr/>
              <p:nvPr/>
            </p:nvSpPr>
            <p:spPr>
              <a:xfrm>
                <a:off x="5157720" y="2978280"/>
                <a:ext cx="149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"loyalty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Line 17"/>
            <p:cNvSpPr/>
            <p:nvPr/>
          </p:nvSpPr>
          <p:spPr>
            <a:xfrm>
              <a:off x="3997440" y="316080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5"/>
            <p:cNvSpPr/>
            <p:nvPr/>
          </p:nvSpPr>
          <p:spPr>
            <a:xfrm>
              <a:off x="3997440" y="3541680"/>
              <a:ext cx="10411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34"/>
            <p:cNvSpPr/>
            <p:nvPr/>
          </p:nvSpPr>
          <p:spPr>
            <a:xfrm>
              <a:off x="5105520" y="3390840"/>
              <a:ext cx="1325520" cy="30492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5"/>
            <p:cNvSpPr/>
            <p:nvPr/>
          </p:nvSpPr>
          <p:spPr>
            <a:xfrm>
              <a:off x="5029200" y="3359160"/>
              <a:ext cx="14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honor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can be created using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array 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e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ills it with f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created using string lit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00280" y="412272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] verbs = {"play", "work", "ea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sleep", "run"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create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each with a string representation and a numeric lower b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 grades include plus and minus designations, so must be stored as strings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Range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e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, introduced in Chapter 5, is used to organize a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lass in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gramming language construct used to organize a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special syntax to acces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ts name implie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uses an array internally to manage the list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an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 of Grade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] grades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", 9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-", 9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+", 8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", 8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-", 8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+", 7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", 7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-", 7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+", 6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", 6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-", 6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F"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de letterGrade : gra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letterGrad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an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 array of Grade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[] grades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", 9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A-", 9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+", 8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", 8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B-", 8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+", 7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", 7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C-", 7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+", 67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", 65)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D-", 6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("F",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rade letterGrade : gra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letterGrad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50040" y="284040"/>
            <a:ext cx="1524600" cy="371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+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-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chool gr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Grade object with the 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 name and numeric lower bou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 (String grade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tof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gr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 = cuto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gr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+ "\t" + 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609480" y="9144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Name (String gr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gr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ower bound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owerBoun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tof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 = cutof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609480" y="1027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Nam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ower bound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LowerBoun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rBoun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's look at an example that manages a collec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V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itial capacity of 100 is created for th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room is needed, a private method is used to create a larger array and transfer the current DV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ovi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VDCollectio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VD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609480" y="22860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98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19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46080" y="76320"/>
            <a:ext cx="906768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vi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rray of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DVDCollection object and adds some DVDs to it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orts on the status of the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movie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Godfather", "Francis Ford Coppala", 1972, 24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District 9", "Neill Blomkamp", 2009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", "Jon Favreau", 2008, 15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All About Eve", "Joseph Mankiewicz", 1950, 17.50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The Matrix", "Andy &amp; Lana Wachowski", 1999, 19.95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Iron Man 2", "Jon Favreau", 2010, 22.99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vies.addDVD ("Casablanca", "Michael Curtiz", 1942, 19.95, fal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ovie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609480" y="22860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98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19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219320" y="1203480"/>
            <a:ext cx="77724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~~~~~~~~~~~~~~~~~~~~~~~~~~~~~~~~~~~~~~~~~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DVD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DVDs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st: $141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cost: $20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Lis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4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7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Godfath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ancis Ford Coppal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rict 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ill Blomk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5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7.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About Ev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seph Mankiewi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y &amp; Lana Wachowsk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u-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22.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ron Man 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n Fav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19.9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sablanc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chael Curt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609480" y="3808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VDCollec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llection of DVD mov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] collec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Creates an initially empty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Collection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is an ordered list of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783880" y="2951280"/>
            <a:ext cx="51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  1     2     3     4     5     6     7     8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3"/>
          <p:cNvGrpSpPr/>
          <p:nvPr/>
        </p:nvGrpSpPr>
        <p:grpSpPr>
          <a:xfrm>
            <a:off x="2638440" y="3408480"/>
            <a:ext cx="5379840" cy="714240"/>
            <a:chOff x="2638440" y="3408480"/>
            <a:chExt cx="5379840" cy="714240"/>
          </a:xfrm>
        </p:grpSpPr>
        <p:grpSp>
          <p:nvGrpSpPr>
            <p:cNvPr id="139" name="Group 6"/>
            <p:cNvGrpSpPr/>
            <p:nvPr/>
          </p:nvGrpSpPr>
          <p:grpSpPr>
            <a:xfrm>
              <a:off x="2638440" y="3408480"/>
              <a:ext cx="5379840" cy="714240"/>
              <a:chOff x="2638440" y="3408480"/>
              <a:chExt cx="5379840" cy="714240"/>
            </a:xfrm>
          </p:grpSpPr>
          <p:sp>
            <p:nvSpPr>
              <p:cNvPr id="140" name="Rectangle 7"/>
              <p:cNvSpPr/>
              <p:nvPr/>
            </p:nvSpPr>
            <p:spPr>
              <a:xfrm>
                <a:off x="2638440" y="3414600"/>
                <a:ext cx="537984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320184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424152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5324040" y="3414600"/>
                <a:ext cx="52848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6384600" y="3414600"/>
                <a:ext cx="528120" cy="701640"/>
              </a:xfrm>
              <a:prstGeom prst="rect">
                <a:avLst/>
              </a:prstGeom>
              <a:solidFill>
                <a:srgbClr val="f5e98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2"/>
              <p:cNvSpPr/>
              <p:nvPr/>
            </p:nvSpPr>
            <p:spPr>
              <a:xfrm>
                <a:off x="7461000" y="3408480"/>
                <a:ext cx="0" cy="71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2712960" y="3547800"/>
              <a:ext cx="529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9   87   94   82   67   98   87   81   74   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4"/>
          <p:cNvSpPr/>
          <p:nvPr/>
        </p:nvSpPr>
        <p:spPr>
          <a:xfrm>
            <a:off x="1553040" y="4629240"/>
            <a:ext cx="58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An array of size N is indexed from zero to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5"/>
          <p:cNvGrpSpPr/>
          <p:nvPr/>
        </p:nvGrpSpPr>
        <p:grpSpPr>
          <a:xfrm>
            <a:off x="816120" y="2114640"/>
            <a:ext cx="2463840" cy="1919880"/>
            <a:chOff x="816120" y="2114640"/>
            <a:chExt cx="2463840" cy="1919880"/>
          </a:xfrm>
        </p:grpSpPr>
        <p:sp>
          <p:nvSpPr>
            <p:cNvPr id="149" name="Rectangle 16"/>
            <p:cNvSpPr/>
            <p:nvPr/>
          </p:nvSpPr>
          <p:spPr>
            <a:xfrm>
              <a:off x="1468800" y="3637080"/>
              <a:ext cx="109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816120" y="2114640"/>
              <a:ext cx="246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entire 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s a single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1997280" y="28749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3738240" y="2112840"/>
            <a:ext cx="4120200" cy="836640"/>
            <a:chOff x="3738240" y="2112840"/>
            <a:chExt cx="4120200" cy="836640"/>
          </a:xfrm>
        </p:grpSpPr>
        <p:sp>
          <p:nvSpPr>
            <p:cNvPr id="153" name="Text Box 20"/>
            <p:cNvSpPr/>
            <p:nvPr/>
          </p:nvSpPr>
          <p:spPr>
            <a:xfrm>
              <a:off x="3738240" y="2112840"/>
              <a:ext cx="412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ach value has a numeric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 Unicode MS"/>
                </a:rPr>
                <a:t>ind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1"/>
            <p:cNvSpPr/>
            <p:nvPr/>
          </p:nvSpPr>
          <p:spPr>
            <a:xfrm flipH="1">
              <a:off x="5742000" y="2492280"/>
              <a:ext cx="53352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22"/>
          <p:cNvSpPr/>
          <p:nvPr/>
        </p:nvSpPr>
        <p:spPr>
          <a:xfrm>
            <a:off x="1097280" y="5238720"/>
            <a:ext cx="707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his array holds 10 values that are indexed from 0 to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2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609480" y="914400"/>
            <a:ext cx="807732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a DVD to the collection, increasing the siz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lection array if necessa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DVD (String title, String directo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collection.leng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aseS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[count]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(title, director, year, cost, bluRa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+= 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609480" y="433440"/>
            <a:ext cx="807732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report describing the DVD coll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port = "~~~~~~~~~~~~~~~~~~~~~~~~~~~~~~~~~~~~~~~~~~~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My DVD Collection\n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Number of DVDs: " + count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Total cost: " + fmt.format(totalCost)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Average cost: " + fmt.format(totalCost/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"\n\nDVD List:\n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= 0; dvd &lt; count; dvd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 += collection[dvd].toString()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o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609480" y="1076400"/>
            <a:ext cx="807732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creases the capacity of the collection by creating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rger array and copying the existing collection into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creaseSiz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] tem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[collection.length * 2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= 0; dvd &lt; collection.length; dvd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[dvd] = collection[dvd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ection = 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VD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DVD video dis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itle,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new DVD with the specified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VD (String title, String directo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s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itle = tit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director =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year = yea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cost = co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bluRay = blu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609480" y="1076400"/>
            <a:ext cx="807732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description of this DV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= fmt.format(cost) + "\t" + year + "\t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+= title + "\t" + dir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lu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 += "\t" + "Blu-R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diagram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v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1371600" y="1676520"/>
            <a:ext cx="6095880" cy="4638600"/>
            <a:chOff x="1371600" y="1676520"/>
            <a:chExt cx="6095880" cy="4638600"/>
          </a:xfrm>
        </p:grpSpPr>
        <p:sp>
          <p:nvSpPr>
            <p:cNvPr id="351" name="TextBox 5"/>
            <p:cNvSpPr/>
            <p:nvPr/>
          </p:nvSpPr>
          <p:spPr>
            <a:xfrm>
              <a:off x="1371600" y="1676520"/>
              <a:ext cx="6095880" cy="463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Picture 21" descr="fig08_03.tif"/>
            <p:cNvPicPr/>
            <p:nvPr/>
          </p:nvPicPr>
          <p:blipFill>
            <a:blip r:embed="rId1"/>
            <a:stretch/>
          </p:blipFill>
          <p:spPr>
            <a:xfrm>
              <a:off x="1752480" y="1819080"/>
              <a:ext cx="5264280" cy="429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atur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ndicates that it take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values 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and-line arg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provided when the interpreter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following invocation of the interpreter passes thr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Ev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ava StateEval pennsylvania texas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Tag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Ta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mmand line argu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imple name tag using a greeting and a name tha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  " + args[0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y name is " + arg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meTa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mmand line argu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imple name tag using a greeting and a name that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  " + args[0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y name is " + args[1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312640" y="817560"/>
            <a:ext cx="4124520" cy="322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Command-Lin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java NameTag Howdy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w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name is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java NameTag Hello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 name is B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1523880" y="29052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cular value in an array is referenced using the array name followed by the index in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9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he 3rd value in the ar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xpression represents a place to store a single integer and can be used wherever an integer variable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ed to create a method that processed a different amount of data from one invocation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let's define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the average of a set of integ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17400" y="4046400"/>
            <a:ext cx="65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ne call to average thre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1 = average (42, 69, 3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08040" y="4960800"/>
            <a:ext cx="84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nother call to average seve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2 = average (35, 43, 93, 23, 40, 21, 7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fine overloaded version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de: we'd need a separate version of the method for each additional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fine the method to accept an array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de: we'd have to create the array and store the integers prior to calling the metho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Java provides a convenient way to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pecial syntax in the formal parameter list, we can define a method to accept any number of parameters of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call, the parameters are automatically put into an array for easy processing in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197720" y="4419720"/>
            <a:ext cx="566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average (int 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"/>
          <p:cNvGrpSpPr/>
          <p:nvPr/>
        </p:nvGrpSpPr>
        <p:grpSpPr>
          <a:xfrm>
            <a:off x="4352400" y="4876920"/>
            <a:ext cx="1142280" cy="1145160"/>
            <a:chOff x="4352400" y="4876920"/>
            <a:chExt cx="1142280" cy="1145160"/>
          </a:xfrm>
        </p:grpSpPr>
        <p:sp>
          <p:nvSpPr>
            <p:cNvPr id="377" name="Text Box 6"/>
            <p:cNvSpPr/>
            <p:nvPr/>
          </p:nvSpPr>
          <p:spPr>
            <a:xfrm>
              <a:off x="4352400" y="5318280"/>
              <a:ext cx="114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1"/>
            <p:cNvSpPr/>
            <p:nvPr/>
          </p:nvSpPr>
          <p:spPr>
            <a:xfrm flipV="1">
              <a:off x="4884480" y="4876920"/>
              <a:ext cx="7596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3"/>
          <p:cNvGrpSpPr/>
          <p:nvPr/>
        </p:nvGrpSpPr>
        <p:grpSpPr>
          <a:xfrm>
            <a:off x="6095520" y="4876920"/>
            <a:ext cx="845280" cy="1161000"/>
            <a:chOff x="6095520" y="4876920"/>
            <a:chExt cx="845280" cy="1161000"/>
          </a:xfrm>
        </p:grpSpPr>
        <p:sp>
          <p:nvSpPr>
            <p:cNvPr id="380" name="Text Box 7"/>
            <p:cNvSpPr/>
            <p:nvPr/>
          </p:nvSpPr>
          <p:spPr>
            <a:xfrm>
              <a:off x="6095520" y="5334120"/>
              <a:ext cx="84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 flipH="1" flipV="1">
              <a:off x="6399000" y="4876920"/>
              <a:ext cx="76320" cy="45720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7"/>
          <p:cNvGrpSpPr/>
          <p:nvPr/>
        </p:nvGrpSpPr>
        <p:grpSpPr>
          <a:xfrm>
            <a:off x="2978640" y="3809880"/>
            <a:ext cx="5100120" cy="761760"/>
            <a:chOff x="2978640" y="3809880"/>
            <a:chExt cx="5100120" cy="761760"/>
          </a:xfrm>
        </p:grpSpPr>
        <p:sp>
          <p:nvSpPr>
            <p:cNvPr id="383" name="Text Box 5"/>
            <p:cNvSpPr/>
            <p:nvPr/>
          </p:nvSpPr>
          <p:spPr>
            <a:xfrm>
              <a:off x="2978640" y="3809880"/>
              <a:ext cx="510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dicates a variable length parameter l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"/>
            <p:cNvSpPr/>
            <p:nvPr/>
          </p:nvSpPr>
          <p:spPr>
            <a:xfrm>
              <a:off x="5646600" y="4190760"/>
              <a:ext cx="0" cy="380880"/>
            </a:xfrm>
            <a:prstGeom prst="line">
              <a:avLst/>
            </a:prstGeom>
            <a:ln w="38160">
              <a:solidFill>
                <a:srgbClr val="de2c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1295280" y="1295280"/>
            <a:ext cx="6705720" cy="454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erag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0.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list.length !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num :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(double)num / list.leng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the parameter can be any primitive or object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1066680" y="2514600"/>
            <a:ext cx="7010640" cy="179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Grades (Grade ... gr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Grade letterGrade : gr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letterGrad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ccepts a variable number of integers (which each represent the distance of one leg of a trip) and returns the total distance of the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304920" y="106668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accepts a variable number of integers (which each represent the distance of one leg of a trip) and returns the total distance of the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1600200" y="3127320"/>
            <a:ext cx="5791320" cy="28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: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sum +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that accepts a variable number of parameters can also accept oth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method accept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, and a variable numbe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into an array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724680" y="3886200"/>
            <a:ext cx="76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test (int count, String 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uble ... nu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rying number of parameters must come last in the formal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annot accept two sets of varying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can also be set up to accept a variable number of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iableParameter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mily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riableParamet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variable length parameter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Family objects using a constructor that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variable number of String objects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lewi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John", "Sharon", "Justin", "Kayl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Nathan", "Samanth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camde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Stephen", "Annie", "Matt", "Mary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imon", "Lucy", "Ruthie", "Sam", "Davi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w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md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an array element can be assigned a value, printed, or used in a calcula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2] = 8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ores[first] = scores[first] +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an = (scores[0] + scores[1]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Top = " + scores[5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ck = scores[rand.nextInt(11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riableParamet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variable length parameter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Family objects using a constructor that ac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variable number of String objects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lewis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John", "Sharon", "Justin", "Kayl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Nathan", "Samantha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camde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"Stephen", "Annie", "Matt", "Mary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imon", "Lucy", "Ruthie", "Sam", "Davi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lewi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camd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3655440" y="512640"/>
            <a:ext cx="136620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a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us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ay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t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ant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ep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u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ut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v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mil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variable length parameter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[] membe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family by storing the (possib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e) names that are passed in as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y (String ... n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s = n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09480" y="1292400"/>
            <a:ext cx="807732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fam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 name : memb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name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523880" y="3456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dimensional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a list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wo-dimensional arr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thought of as a table of elements, with rows an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903240" y="3032280"/>
            <a:ext cx="1991880" cy="2377440"/>
            <a:chOff x="903240" y="3032280"/>
            <a:chExt cx="1991880" cy="2377440"/>
          </a:xfrm>
        </p:grpSpPr>
        <p:sp>
          <p:nvSpPr>
            <p:cNvPr id="423" name="Rectangle 5"/>
            <p:cNvSpPr/>
            <p:nvPr/>
          </p:nvSpPr>
          <p:spPr>
            <a:xfrm>
              <a:off x="236196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6"/>
            <p:cNvSpPr/>
            <p:nvPr/>
          </p:nvSpPr>
          <p:spPr>
            <a:xfrm>
              <a:off x="236196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236196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236196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236196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10"/>
            <p:cNvSpPr/>
            <p:nvPr/>
          </p:nvSpPr>
          <p:spPr>
            <a:xfrm>
              <a:off x="903240" y="3032280"/>
              <a:ext cx="151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men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1"/>
            <p:cNvSpPr/>
            <p:nvPr/>
          </p:nvSpPr>
          <p:spPr>
            <a:xfrm>
              <a:off x="1676160" y="373356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2"/>
          <p:cNvGrpSpPr/>
          <p:nvPr/>
        </p:nvGrpSpPr>
        <p:grpSpPr>
          <a:xfrm>
            <a:off x="3321000" y="3048120"/>
            <a:ext cx="4756320" cy="2361600"/>
            <a:chOff x="3321000" y="3048120"/>
            <a:chExt cx="4756320" cy="2361600"/>
          </a:xfrm>
        </p:grpSpPr>
        <p:sp>
          <p:nvSpPr>
            <p:cNvPr id="431" name="Rectangle 13"/>
            <p:cNvSpPr/>
            <p:nvPr/>
          </p:nvSpPr>
          <p:spPr>
            <a:xfrm>
              <a:off x="487692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4"/>
            <p:cNvSpPr/>
            <p:nvPr/>
          </p:nvSpPr>
          <p:spPr>
            <a:xfrm>
              <a:off x="487692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487692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6"/>
            <p:cNvSpPr/>
            <p:nvPr/>
          </p:nvSpPr>
          <p:spPr>
            <a:xfrm>
              <a:off x="487692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7"/>
            <p:cNvSpPr/>
            <p:nvPr/>
          </p:nvSpPr>
          <p:spPr>
            <a:xfrm>
              <a:off x="487692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8"/>
            <p:cNvSpPr/>
            <p:nvPr/>
          </p:nvSpPr>
          <p:spPr>
            <a:xfrm>
              <a:off x="3321000" y="3048120"/>
              <a:ext cx="1643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9"/>
            <p:cNvSpPr/>
            <p:nvPr/>
          </p:nvSpPr>
          <p:spPr>
            <a:xfrm>
              <a:off x="4191120" y="3749400"/>
              <a:ext cx="0" cy="6094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0"/>
            <p:cNvSpPr/>
            <p:nvPr/>
          </p:nvSpPr>
          <p:spPr>
            <a:xfrm>
              <a:off x="54100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54100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2"/>
            <p:cNvSpPr/>
            <p:nvPr/>
          </p:nvSpPr>
          <p:spPr>
            <a:xfrm>
              <a:off x="54100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"/>
            <p:cNvSpPr/>
            <p:nvPr/>
          </p:nvSpPr>
          <p:spPr>
            <a:xfrm>
              <a:off x="54100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54100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594360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594360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594360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8"/>
            <p:cNvSpPr/>
            <p:nvPr/>
          </p:nvSpPr>
          <p:spPr>
            <a:xfrm>
              <a:off x="594360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9"/>
            <p:cNvSpPr/>
            <p:nvPr/>
          </p:nvSpPr>
          <p:spPr>
            <a:xfrm>
              <a:off x="594360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0"/>
            <p:cNvSpPr/>
            <p:nvPr/>
          </p:nvSpPr>
          <p:spPr>
            <a:xfrm>
              <a:off x="6477120" y="3352680"/>
              <a:ext cx="53316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31"/>
            <p:cNvSpPr/>
            <p:nvPr/>
          </p:nvSpPr>
          <p:spPr>
            <a:xfrm>
              <a:off x="6477120" y="35812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32"/>
            <p:cNvSpPr/>
            <p:nvPr/>
          </p:nvSpPr>
          <p:spPr>
            <a:xfrm>
              <a:off x="6477120" y="40384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3"/>
            <p:cNvSpPr/>
            <p:nvPr/>
          </p:nvSpPr>
          <p:spPr>
            <a:xfrm>
              <a:off x="6477120" y="44956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4"/>
            <p:cNvSpPr/>
            <p:nvPr/>
          </p:nvSpPr>
          <p:spPr>
            <a:xfrm>
              <a:off x="6477120" y="4952880"/>
              <a:ext cx="5331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35"/>
            <p:cNvSpPr/>
            <p:nvPr/>
          </p:nvSpPr>
          <p:spPr>
            <a:xfrm>
              <a:off x="701028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701028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701028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701028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701028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7543800" y="3352680"/>
              <a:ext cx="533520" cy="205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7543800" y="35812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7543800" y="40384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7543800" y="44956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4"/>
            <p:cNvSpPr/>
            <p:nvPr/>
          </p:nvSpPr>
          <p:spPr>
            <a:xfrm>
              <a:off x="7543800" y="4952880"/>
              <a:ext cx="5335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5"/>
            <p:cNvSpPr/>
            <p:nvPr/>
          </p:nvSpPr>
          <p:spPr>
            <a:xfrm>
              <a:off x="4876920" y="3200400"/>
              <a:ext cx="9903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Footer Placeholder 4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precise, in Java a two-dimensional array is an array of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wo-dimensional array is declared by specifying the size of each dimension separat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[][] table = new int[12][5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rray element is referenced using two index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ue = table[3][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y stored in one row can be specified using on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40384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TwoDArra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odaSurve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762120" y="1371600"/>
          <a:ext cx="7619760" cy="2193840"/>
        </p:xfrm>
        <a:graphic>
          <a:graphicData uri="http://schemas.openxmlformats.org/drawingml/2006/table">
            <a:tbl>
              <a:tblPr/>
              <a:tblGrid>
                <a:gridCol w="2539800"/>
                <a:gridCol w="1666800"/>
                <a:gridCol w="34131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[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 array of integers,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 arr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[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ay of integ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ble[5][12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D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woD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2D array of integers, fills it with 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lues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tabl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5]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the table with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row][col] = row * 10 + c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table[row][col]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DArra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woD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2D array of integers, fills it with incr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lues, then prints them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tabl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5][1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ad the table with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ble[row][col] = row * 10 + c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=0; row &lt; table.length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t col=0; col &lt; table[row].length; col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table[row][col]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152280" y="711360"/>
            <a:ext cx="88394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odaSurve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two-dimensional arr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and prints the average of each row (soda) and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umn (respondent) of the survey sc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[] scores = { {3, 4, 5, 2, 1, 4, 3, 2, 4, 4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2, 4, 3, 4, 3, 3, 2, 1, 2, 2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3, 5, 4, 5, 5, 3, 2, 5, 5, 5}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1, 1, 1, 3, 1, 2, 1, 3, 2, 4} 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 = scores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OPLE = scores[0].leng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sodaSum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SODA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personSum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PEOPLE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56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held in an arra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ray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stores multiple values of the same type –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emen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 type can be a primitive type or an object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can create an array of integers, an array of characters,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m[soda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Sum[person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s: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oda #" + (soda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odaSum[soda]/PEOPL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erson #" + (person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personSum[person]/SODA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09480" y="7747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Sum[soda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Sum[person] += scores[soda][person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s: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=0; soda &lt; SODAS; soda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oda #" + (soda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odaSum[soda]/PEOPL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=0; person &lt; PEOPLE; person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erson #" + (person+1) + "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mt.format (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personSum[person]/SODA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3200400" y="609480"/>
            <a:ext cx="2362320" cy="492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1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2: 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3: 4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da #4: 1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1: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2: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3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4: 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5: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6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7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8: 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9: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 #10: 3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dimensional 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ray can have many dimensions – if it has more than one dimension, it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dimensional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mension subdivides the previous one into the specified number of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imension has its ow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each dimension is an array of array references, the arrays within one dimension can be of different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gge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4"/>
          <p:cNvSpPr/>
          <p:nvPr/>
        </p:nvSpPr>
        <p:spPr>
          <a:xfrm>
            <a:off x="1523880" y="40086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can be helpful in graphic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y can be used to store a list of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ultisided, closed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y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imilar to a polygon except that its endpoints do not meet, and it cannot be f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cket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cket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5"/>
          <p:cNvSpPr/>
          <p:nvPr/>
        </p:nvSpPr>
        <p:spPr>
          <a:xfrm>
            <a:off x="609480" y="3571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ocke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09480" y="3571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Rocke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3124080" y="304920"/>
            <a:ext cx="2971800" cy="3276360"/>
            <a:chOff x="3124080" y="304920"/>
            <a:chExt cx="2971800" cy="3276360"/>
          </a:xfrm>
        </p:grpSpPr>
        <p:sp>
          <p:nvSpPr>
            <p:cNvPr id="499" name="TextBox 5"/>
            <p:cNvSpPr/>
            <p:nvPr/>
          </p:nvSpPr>
          <p:spPr>
            <a:xfrm>
              <a:off x="3124080" y="304920"/>
              <a:ext cx="2971800" cy="3276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4" descr="Rocket.png"/>
            <p:cNvPicPr/>
            <p:nvPr/>
          </p:nvPicPr>
          <p:blipFill>
            <a:blip r:embed="rId1"/>
            <a:stretch/>
          </p:blipFill>
          <p:spPr>
            <a:xfrm>
              <a:off x="3352680" y="533520"/>
              <a:ext cx="2514600" cy="279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"/>
          <p:cNvSpPr/>
          <p:nvPr/>
        </p:nvSpPr>
        <p:spPr>
          <a:xfrm>
            <a:off x="609480" y="5587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cke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Rocket = {100, 120, 120, 130, 130, 70, 70, 80, 8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Rocket = {15, 40, 115, 125, 150, 150, 125, 115, 4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Window = {95, 105, 110, 9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Window = {45, 45, 70, 7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xFlame = {70, 70, 75, 80, 90, 100, 110, 115, 12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0, 130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[] yFlame = {155, 170, 165, 190, 170, 175, 160, 185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0, 175, 155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basic characteristics of this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e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rocket using polygons and poly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Polygon (xRocket, yRocket, xRocket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a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Polygon (xWindow, yWindow, xWindow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Polyline (xFlame, yFlame, xFlame.leng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lygo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also be used to define and draw a 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of the overload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raw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ll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tak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s a parameter instead of arrays of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the array itself is an object that must be in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way to depic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o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2592360" y="2743200"/>
            <a:ext cx="2741760" cy="3809880"/>
            <a:chOff x="2592360" y="2743200"/>
            <a:chExt cx="2741760" cy="3809880"/>
          </a:xfrm>
        </p:grpSpPr>
        <p:sp>
          <p:nvSpPr>
            <p:cNvPr id="169" name="Rectangle 5"/>
            <p:cNvSpPr/>
            <p:nvPr/>
          </p:nvSpPr>
          <p:spPr>
            <a:xfrm>
              <a:off x="3610080" y="274320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>
              <a:off x="2592360" y="27576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883320" y="2933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8"/>
            <p:cNvSpPr/>
            <p:nvPr/>
          </p:nvSpPr>
          <p:spPr>
            <a:xfrm>
              <a:off x="4648320" y="2743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4648320" y="3124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4648320" y="3505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2"/>
            <p:cNvSpPr/>
            <p:nvPr/>
          </p:nvSpPr>
          <p:spPr>
            <a:xfrm>
              <a:off x="4648320" y="3886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3"/>
            <p:cNvSpPr/>
            <p:nvPr/>
          </p:nvSpPr>
          <p:spPr>
            <a:xfrm>
              <a:off x="4648320" y="4267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4"/>
            <p:cNvSpPr/>
            <p:nvPr/>
          </p:nvSpPr>
          <p:spPr>
            <a:xfrm>
              <a:off x="4648320" y="4648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5"/>
            <p:cNvSpPr/>
            <p:nvPr/>
          </p:nvSpPr>
          <p:spPr>
            <a:xfrm>
              <a:off x="4648320" y="5029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6"/>
            <p:cNvSpPr/>
            <p:nvPr/>
          </p:nvSpPr>
          <p:spPr>
            <a:xfrm>
              <a:off x="4648320" y="54100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7"/>
            <p:cNvSpPr/>
            <p:nvPr/>
          </p:nvSpPr>
          <p:spPr>
            <a:xfrm>
              <a:off x="4648320" y="5791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8"/>
            <p:cNvSpPr/>
            <p:nvPr/>
          </p:nvSpPr>
          <p:spPr>
            <a:xfrm>
              <a:off x="4648320" y="61722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3"/>
          <p:cNvGrpSpPr/>
          <p:nvPr/>
        </p:nvGrpSpPr>
        <p:grpSpPr>
          <a:xfrm>
            <a:off x="471600" y="3428640"/>
            <a:ext cx="3000240" cy="1847520"/>
            <a:chOff x="471600" y="3428640"/>
            <a:chExt cx="3000240" cy="1847520"/>
          </a:xfrm>
        </p:grpSpPr>
        <p:sp>
          <p:nvSpPr>
            <p:cNvPr id="184" name="Text Box 17"/>
            <p:cNvSpPr/>
            <p:nvPr/>
          </p:nvSpPr>
          <p:spPr>
            <a:xfrm>
              <a:off x="471600" y="4267440"/>
              <a:ext cx="30002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name of the ar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 an object refer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var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 flipV="1">
              <a:off x="1904760" y="3428640"/>
              <a:ext cx="685800" cy="838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2378520" y="1720800"/>
            <a:ext cx="483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ing and Using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 Length Parameter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Dimensional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gons and Poly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se Events and Key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"/>
          <p:cNvSpPr/>
          <p:nvPr/>
        </p:nvSpPr>
        <p:spPr>
          <a:xfrm>
            <a:off x="1523880" y="45626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related to the mouse are separat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use 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use mo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Ev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609480" y="2971800"/>
          <a:ext cx="8001000" cy="2616120"/>
        </p:xfrm>
        <a:graphic>
          <a:graphicData uri="http://schemas.openxmlformats.org/drawingml/2006/table">
            <a:tbl>
              <a:tblPr/>
              <a:tblGrid>
                <a:gridCol w="2316240"/>
                <a:gridCol w="5684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pres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relea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7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click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button is pressed down and released without moving the mouse in betw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nte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nto (over)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3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exi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pointer is moved off of a compon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motion ev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s for mouse events are created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passed to the appropriate method when a mouse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14400" y="1905120"/>
          <a:ext cx="6948360" cy="1096920"/>
        </p:xfrm>
        <a:graphic>
          <a:graphicData uri="http://schemas.openxmlformats.org/drawingml/2006/table">
            <a:tbl>
              <a:tblPr/>
              <a:tblGrid>
                <a:gridCol w="2316240"/>
                <a:gridCol w="4632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 drag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ouse is moved while the mouse button is pressed 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given program, we may only care about one or two mou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tisfy the implementation of a listener interface, empty methods must be provided for unuse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t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t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ot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Dot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7"/>
          <p:cNvGrpSpPr/>
          <p:nvPr/>
        </p:nvGrpSpPr>
        <p:grpSpPr>
          <a:xfrm>
            <a:off x="2514600" y="457200"/>
            <a:ext cx="4267080" cy="3352680"/>
            <a:chOff x="2514600" y="457200"/>
            <a:chExt cx="4267080" cy="3352680"/>
          </a:xfrm>
        </p:grpSpPr>
        <p:sp>
          <p:nvSpPr>
            <p:cNvPr id="527" name="TextBox 5"/>
            <p:cNvSpPr/>
            <p:nvPr/>
          </p:nvSpPr>
          <p:spPr>
            <a:xfrm>
              <a:off x="2514600" y="457200"/>
              <a:ext cx="4267080" cy="3352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6" descr="Dots.png"/>
            <p:cNvPicPr/>
            <p:nvPr/>
          </p:nvPicPr>
          <p:blipFill>
            <a:blip r:embed="rId1"/>
            <a:stretch/>
          </p:blipFill>
          <p:spPr>
            <a:xfrm>
              <a:off x="2752560" y="725400"/>
              <a:ext cx="3784680" cy="2806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609480" y="95076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ot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rimary panel for the Dots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=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dius of each 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Point&gt; point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panel to listen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Lis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Point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Mouse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ll of the dots stored in the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oint spot : point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spot.x-SIZE, spot.y-SIZE, SIZE*2, SIZE*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Count: " + pointList.size(), 5, 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5"/>
          <p:cNvSpPr/>
          <p:nvPr/>
        </p:nvSpPr>
        <p:spPr>
          <a:xfrm>
            <a:off x="6094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mouse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ts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the current point to the list of points and redr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panel whenever the mouse button is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Pressed (Mouse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List.add(event.getPoi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pa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ovide empty definitions for unused event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Click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Releas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nter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useExited (MouseEvent event)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s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bberb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visual effect in which a shape is "stretched" as it is drawn using the 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continually redraws a line as the mouse is drag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bberLine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ubberLines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41:20Z</dcterms:created>
  <dc:creator>usnidem</dc:creator>
  <dc:description/>
  <dc:language>en-US</dc:language>
  <cp:lastModifiedBy>Noreen Elliott</cp:lastModifiedBy>
  <dcterms:modified xsi:type="dcterms:W3CDTF">2013-08-12T20:19:03Z</dcterms:modified>
  <cp:revision>22</cp:revision>
  <dc:subject/>
  <dc:title>Chapter #, Title</dc:title>
</cp:coreProperties>
</file>